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C6C-616C-4530-82EE-6D269299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A55-CB62-4AE3-A23A-C32335BE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3C3-DB37-44CE-9855-38B86A16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C34-B760-4776-A00D-FDE92E89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B10C-2017-48CC-B24F-8C48F24D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B6AC-590D-4797-9DE8-602C689D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A99B-035C-44B7-8049-1FCB1C4D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98CF-0E2B-4845-BCD6-C452B7FA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EEA9-D687-4AC0-97BF-E8DBE94D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15B9-DCB6-4F04-8856-87933738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FD41-7B5E-4790-B17B-7B9F0FF6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954-2A40-485A-9A0A-AB7F7680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507A-B614-49E8-8277-006E7C72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AF94-930C-44F1-A350-EE59D588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04C7-9736-4CFC-88C8-4DE52BD4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6AA3-AEE4-430C-99D7-9FE5D102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CC68-8510-4F10-AA37-EDC3CC99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24B-136E-4AAD-9345-A39371BE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473-ADB4-409F-B661-605E3E0E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1F2-C848-472E-9AC8-115463C7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CB9-3925-4730-B467-2CF954AB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841-0FA8-422C-AF5A-FA7E950B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987-D6E8-4EBF-8B14-08C0D0A1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1A5-5A01-44C7-A833-EEDAA578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58b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C776-4BCD-4827-979B-9B15C18A0789}" type="datetime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CB71-9DEB-4128-86B9-F276E3A69862}" type="slidenum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EAE7-28A4-4964-AEEF-7FC9EFCE5E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78DF-54DB-4478-8B17-B49F21FD4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58b7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8b7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58b7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58b7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58b7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219320"/>
            <a:ext cx="716292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486400"/>
            <a:ext cx="67820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urso de Liderazgo –Nivel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00200" y="2362320"/>
            <a:ext cx="64008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person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ntrenamiento para la vid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espiritu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Necesidad de amistad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15000" y="4946760"/>
            <a:ext cx="289548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90360" y="7621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Ayuda en los procesos curativos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Mejor situación económic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vangelismo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ducación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Seguridad financier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283440" y="3200400"/>
            <a:ext cx="2022480" cy="273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Evaluando  Su Comunidad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Reúnase con su comis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mience con orac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loque el amor en primer lugar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nozca a los miembros de su iglesia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Familiarícese con sus vecinos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76160" y="990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Valore las ideas de cada mujer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Delimite las necesidade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Sea sensibl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Reuniones participativa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Grupos de enfoqu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2565360" cy="309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ffffff"/>
                </a:solidFill>
                <a:latin typeface="Arial"/>
              </a:rPr>
              <a:t>Encuestas – Planificación e Implementación</a:t>
            </a:r>
            <a:endParaRPr b="0" lang="en-US" sz="37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100" spc="-1" strike="noStrike">
                <a:solidFill>
                  <a:srgbClr val="ffff00"/>
                </a:solidFill>
                <a:latin typeface="Arial"/>
              </a:rPr>
              <a:t>Una buena encuesta le dirá:</a:t>
            </a: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marL="322200" indent="0">
              <a:lnSpc>
                <a:spcPct val="4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de los ministerios que están activos actualmente en la iglesia son de interés para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necesidad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Quiénes son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Las formas que las mujeres están dispuestas a servir a otr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interes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Las encuestas deben incluir: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lugar para escribir el nombre, dirección, teléfono y el grupo de edad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ellas desean asistir a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lista de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indicar  en que ministerio están participando actualmente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71240" y="609120"/>
            <a:ext cx="6629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unirse a los ministerios actu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en blanco para que enumeren sus habilidades e intereses especi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ayudar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que enumeren sus necesidad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lgo para cada grupo de mujer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17:50:03Z</dcterms:created>
  <dc:creator>Dan &amp; Lynnetta Hamstra</dc:creator>
  <dc:description/>
  <dc:language>en-US</dc:language>
  <cp:lastModifiedBy>Sede Administrativa</cp:lastModifiedBy>
  <dcterms:modified xsi:type="dcterms:W3CDTF">2003-05-13T13:56:07Z</dcterms:modified>
  <cp:revision>29</cp:revision>
  <dc:subject/>
  <dc:title>Women’s Needs Assessment in the Local Church</dc:title>
</cp:coreProperties>
</file>